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8DC-99B2-47DA-8BAB-48791425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341-3524-4ECC-AEF7-55F59104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B70-858B-402A-9914-A851F007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348-5AD1-4248-8169-CCDD49B7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D679F-76CF-483B-AA32-EADE1216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BD01-1FF6-48D4-880E-6B324334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DD13-E24B-44D5-8D33-C18E1F53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33DB-CC98-41FD-A350-2A9943DC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7223-65F0-45C0-BE05-A466DC0E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7DD5-666E-4690-87FC-167FBA8C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C303-DB66-4EAE-8869-47326324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945-F3BD-4700-BB12-FDC8DA4C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69B1-25A8-47F6-843B-796CD398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BC01-A46F-4334-A0E9-C3F61571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1B4C-9200-4533-98FD-71F87BD1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3C01-8FFD-40F8-A4C1-18ABEA27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C52F-E119-4A17-8E72-B4055471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D79-27A4-43D2-996D-09A135CB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7878-3064-4000-A28B-1ED0771C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0F7-0C73-49F6-A1DB-3D749369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7097-35D9-443B-B954-CF0D3255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41D-675B-426C-AA38-9CE9A611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6D2-AE48-472D-A06F-5817B600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993-7DF1-4014-8FBA-B538EFEC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4D2A-DE8C-4AEF-8073-BC1CCCCCAB80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FFD8-F02F-4E9E-A442-E79FBDB492E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600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156280"/>
            <a:ext cx="6659640" cy="33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ربنا غلبت الموت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0"/>
            <a:ext cx="8136000" cy="851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لأجلِ زلاّتِنا ماتَ الـمسيح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ولأجلِ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تبريرِ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cc00"/>
                </a:solidFill>
                <a:latin typeface="Arial Unicode MS"/>
                <a:cs typeface="Akhbar MT"/>
              </a:rPr>
              <a:t>قد قام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600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5508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نتم أموات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للخطيئة،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حياءٌ لله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الـمسيح يسوع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238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00" y="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03640" y="0"/>
            <a:ext cx="594036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أنتم قمتم مع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حياتُكم هيَ المسي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فانظروا إلى الأعال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إلى مجده ارتفعو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216000" y="1052640"/>
            <a:ext cx="5292720" cy="696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اجعلنا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شهودَ قيامتِكَ 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8440"/>
            <a:ext cx="5076720" cy="10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ربَّنا غلبتَ الـموتَ بالـموتِ لتكونَ لنا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حيا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33:18Z</dcterms:created>
  <dc:creator>Charbel Azar</dc:creator>
  <dc:description/>
  <dc:language>en-US</dc:language>
  <cp:lastModifiedBy>-</cp:lastModifiedBy>
  <dcterms:modified xsi:type="dcterms:W3CDTF">2003-04-20T07:08:51Z</dcterms:modified>
  <cp:revision>14</cp:revision>
  <dc:subject/>
  <dc:title>Slide 1</dc:title>
</cp:coreProperties>
</file>